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3.jpeg" ContentType="image/jpeg"/>
  <Override PartName="/ppt/media/image12.jpeg" ContentType="image/jpeg"/>
  <Override PartName="/ppt/media/image19.png" ContentType="image/png"/>
  <Override PartName="/ppt/media/image18.wmf" ContentType="image/x-wmf"/>
  <Override PartName="/ppt/media/image1.png" ContentType="image/png"/>
  <Override PartName="/ppt/media/image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907588" cy="6858000"/>
  <p:notesSz cx="6638925" cy="9893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1000" y="104760"/>
            <a:ext cx="8842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73160" y="990720"/>
            <a:ext cx="8702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73160" y="3816720"/>
            <a:ext cx="8702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1000" y="104760"/>
            <a:ext cx="8842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73160" y="990720"/>
            <a:ext cx="4246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32480" y="990720"/>
            <a:ext cx="4246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73160" y="3816720"/>
            <a:ext cx="4246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32480" y="3816720"/>
            <a:ext cx="4246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1000" y="104760"/>
            <a:ext cx="8842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73160" y="990720"/>
            <a:ext cx="2801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15440" y="990720"/>
            <a:ext cx="2801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57720" y="990720"/>
            <a:ext cx="2801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73160" y="3816720"/>
            <a:ext cx="2801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15440" y="3816720"/>
            <a:ext cx="2801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57720" y="3816720"/>
            <a:ext cx="2801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1000" y="104760"/>
            <a:ext cx="8842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73160" y="990720"/>
            <a:ext cx="870264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1000" y="104760"/>
            <a:ext cx="8842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73160" y="990720"/>
            <a:ext cx="8702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1000" y="104760"/>
            <a:ext cx="8842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73160" y="990720"/>
            <a:ext cx="4246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32480" y="990720"/>
            <a:ext cx="4246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1000" y="104760"/>
            <a:ext cx="8842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1000" y="104760"/>
            <a:ext cx="884232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1000" y="104760"/>
            <a:ext cx="8842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73160" y="990720"/>
            <a:ext cx="4246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32480" y="990720"/>
            <a:ext cx="4246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73160" y="3816720"/>
            <a:ext cx="4246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1000" y="104760"/>
            <a:ext cx="8842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73160" y="990720"/>
            <a:ext cx="4246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32480" y="990720"/>
            <a:ext cx="4246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32480" y="3816720"/>
            <a:ext cx="4246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1000" y="104760"/>
            <a:ext cx="8842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73160" y="990720"/>
            <a:ext cx="4246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32480" y="990720"/>
            <a:ext cx="4246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73160" y="3816720"/>
            <a:ext cx="8702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917280" cy="6862680"/>
          </a:xfrm>
          <a:custGeom>
            <a:avLst/>
            <a:gdLst/>
            <a:ahLst/>
            <a:rect l="l" t="t" r="r" b="b"/>
            <a:pathLst>
              <a:path w="6246" h="4323">
                <a:moveTo>
                  <a:pt x="0" y="4320"/>
                </a:moveTo>
                <a:lnTo>
                  <a:pt x="0" y="2"/>
                </a:lnTo>
                <a:lnTo>
                  <a:pt x="581" y="0"/>
                </a:lnTo>
                <a:lnTo>
                  <a:pt x="576" y="4173"/>
                </a:lnTo>
                <a:lnTo>
                  <a:pt x="6246" y="4176"/>
                </a:lnTo>
                <a:lnTo>
                  <a:pt x="6246" y="4323"/>
                </a:lnTo>
                <a:lnTo>
                  <a:pt x="0" y="4320"/>
                </a:lnTo>
                <a:close/>
              </a:path>
            </a:pathLst>
          </a:custGeom>
          <a:solidFill>
            <a:srgbClr val="e044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1000" y="104760"/>
            <a:ext cx="8842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Lucida Sans Unicode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73160" y="990720"/>
            <a:ext cx="8702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25e"/>
                </a:solidFill>
                <a:latin typeface="Lucida Sans Unicode"/>
              </a:rPr>
              <a:t>Click to edit the outline text format</a:t>
            </a: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  <a:p>
            <a:pPr lvl="1" marL="577800" indent="-288720">
              <a:lnSpc>
                <a:spcPct val="90000"/>
              </a:lnSpc>
              <a:spcBef>
                <a:spcPts val="901"/>
              </a:spcBef>
              <a:buClr>
                <a:srgbClr val="f40000"/>
              </a:buClr>
              <a:buSzPct val="9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25e"/>
                </a:solidFill>
                <a:latin typeface="Lucida Sans Unicode"/>
              </a:rPr>
              <a:t>Second Outline Level</a:t>
            </a: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  <a:p>
            <a:pPr lvl="2" marL="1184400" indent="-228600">
              <a:lnSpc>
                <a:spcPct val="90000"/>
              </a:lnSpc>
              <a:spcBef>
                <a:spcPts val="901"/>
              </a:spcBef>
              <a:buClr>
                <a:srgbClr val="f400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25e"/>
                </a:solidFill>
                <a:latin typeface="Lucida Sans Unicode"/>
              </a:rPr>
              <a:t>Third Outline Level</a:t>
            </a: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  <a:p>
            <a:pPr lvl="3" marL="1603440" indent="-228600">
              <a:lnSpc>
                <a:spcPct val="90000"/>
              </a:lnSpc>
              <a:spcBef>
                <a:spcPts val="901"/>
              </a:spcBef>
              <a:buClr>
                <a:srgbClr val="f400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25e"/>
                </a:solidFill>
                <a:latin typeface="Lucida Sans Unicode"/>
              </a:rPr>
              <a:t>Fourth Outline Level</a:t>
            </a: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  <a:p>
            <a:pPr lvl="4" marL="2057400" indent="-228600">
              <a:lnSpc>
                <a:spcPct val="90000"/>
              </a:lnSpc>
              <a:spcBef>
                <a:spcPts val="901"/>
              </a:spcBef>
              <a:buClr>
                <a:srgbClr val="f400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25e"/>
                </a:solidFill>
                <a:latin typeface="Lucida Sans Unicode"/>
              </a:rPr>
              <a:t>Fifth Outline Level</a:t>
            </a: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  <a:p>
            <a:pPr lvl="5" marL="20574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25e"/>
                </a:solidFill>
                <a:latin typeface="Lucida Sans Unicode"/>
              </a:rPr>
              <a:t>Sixth Outline Level</a:t>
            </a: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  <a:p>
            <a:pPr lvl="6" marL="20574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25e"/>
                </a:solidFill>
                <a:latin typeface="Lucida Sans Unicode"/>
              </a:rPr>
              <a:t>Seventh Outline Level</a:t>
            </a: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</p:txBody>
      </p:sp>
      <p:sp>
        <p:nvSpPr>
          <p:cNvPr id="3" name=""/>
          <p:cNvSpPr/>
          <p:nvPr/>
        </p:nvSpPr>
        <p:spPr>
          <a:xfrm>
            <a:off x="0" y="127080"/>
            <a:ext cx="907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CB22D-082C-4157-945D-2FD6D59099A6}" type="slidenum">
              <a:rPr b="1" lang="it-IT" sz="1800" spc="-1" strike="noStrike">
                <a:solidFill>
                  <a:srgbClr val="fffff3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105760" y="5827680"/>
            <a:ext cx="1600200" cy="7430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692280"/>
            <a:ext cx="9906120" cy="0"/>
          </a:xfrm>
          <a:prstGeom prst="line">
            <a:avLst/>
          </a:prstGeom>
          <a:ln w="38160">
            <a:solidFill>
              <a:srgbClr val="e044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-1440" y="15840"/>
            <a:ext cx="9905760" cy="0"/>
          </a:xfrm>
          <a:prstGeom prst="line">
            <a:avLst/>
          </a:prstGeom>
          <a:ln w="38160">
            <a:solidFill>
              <a:srgbClr val="e044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157400" y="6593040"/>
            <a:ext cx="7972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Lucida Sans Unicode"/>
              </a:rPr>
              <a:t>Dipartimento di Napoli -Dipartimento Processi Organizzativ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wmf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81000" y="104760"/>
            <a:ext cx="8842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73160" y="990720"/>
            <a:ext cx="8702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66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81000" y="43560"/>
            <a:ext cx="8842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6600"/>
                </a:solidFill>
                <a:latin typeface="Comic Sans MS"/>
              </a:rPr>
              <a:t>IL RISCHIO ELETTRICO</a:t>
            </a:r>
            <a:endParaRPr b="1" lang="en-US" sz="3200" spc="-1" strike="noStrike">
              <a:solidFill>
                <a:srgbClr val="003366"/>
              </a:solidFill>
              <a:latin typeface="Lucida Sans Unicode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639800" y="1413000"/>
            <a:ext cx="7128000" cy="4995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1" name=""/>
          <p:cNvSpPr/>
          <p:nvPr/>
        </p:nvSpPr>
        <p:spPr>
          <a:xfrm>
            <a:off x="1065240" y="765000"/>
            <a:ext cx="820908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Comic Sans MS"/>
              </a:rPr>
              <a:t>Avete mai giocato così</a:t>
            </a: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81000" y="43560"/>
            <a:ext cx="8842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c3300"/>
                </a:solidFill>
                <a:latin typeface="Comic Sans MS"/>
              </a:rPr>
              <a:t>GLI ELABORATI DOCUMENTALI</a:t>
            </a:r>
            <a:endParaRPr b="1" lang="en-US" sz="32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03" name=""/>
          <p:cNvSpPr/>
          <p:nvPr/>
        </p:nvSpPr>
        <p:spPr>
          <a:xfrm>
            <a:off x="1065240" y="1052640"/>
            <a:ext cx="4248000" cy="1311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0" spc="-1" strike="noStrike">
                <a:solidFill>
                  <a:srgbClr val="000000"/>
                </a:solidFill>
                <a:latin typeface="Comic Sans MS"/>
              </a:rPr>
              <a:t>IL DV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21240" y="2924280"/>
            <a:ext cx="3600360" cy="1311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0" spc="-1" strike="noStrike">
                <a:solidFill>
                  <a:srgbClr val="000000"/>
                </a:solidFill>
                <a:latin typeface="Comic Sans MS"/>
              </a:rPr>
              <a:t>IL PD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 rot="20743800">
            <a:off x="1136520" y="2276640"/>
            <a:ext cx="3345120" cy="33987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6248520" y="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592520" y="4797360"/>
            <a:ext cx="53136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Gli studenti formati parteciperanno alla prova di evacuazione con compiti ben precisi (aprifila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81000" y="104760"/>
            <a:ext cx="8842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6699"/>
                </a:solidFill>
                <a:latin typeface="Comic Sans MS"/>
              </a:rPr>
              <a:t>Prossimamente su questi schermi….</a:t>
            </a:r>
            <a:endParaRPr b="1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09" name=""/>
          <p:cNvSpPr/>
          <p:nvPr/>
        </p:nvSpPr>
        <p:spPr>
          <a:xfrm>
            <a:off x="920880" y="907920"/>
            <a:ext cx="7416720" cy="49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Comic Sans MS"/>
              </a:rPr>
              <a:t>Scuola elementare</a:t>
            </a:r>
            <a:r>
              <a:rPr b="0" lang="it-IT" sz="24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Comic Sans MS"/>
              </a:rPr>
              <a:t>Scuola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Comic Sans MS"/>
              </a:rPr>
              <a:t>Liceo classico</a:t>
            </a:r>
            <a:r>
              <a:rPr b="0" lang="it-IT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368520" y="3141720"/>
            <a:ext cx="1081080" cy="431640"/>
          </a:xfrm>
          <a:prstGeom prst="rightArrow">
            <a:avLst>
              <a:gd name="adj1" fmla="val 50000"/>
              <a:gd name="adj2" fmla="val 62615"/>
            </a:avLst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73600" y="981000"/>
            <a:ext cx="1081080" cy="432000"/>
          </a:xfrm>
          <a:prstGeom prst="rightArrow">
            <a:avLst>
              <a:gd name="adj1" fmla="val 50000"/>
              <a:gd name="adj2" fmla="val 62563"/>
            </a:avLst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97240" y="5373720"/>
            <a:ext cx="1081080" cy="431640"/>
          </a:xfrm>
          <a:prstGeom prst="rightArrow">
            <a:avLst>
              <a:gd name="adj1" fmla="val 50000"/>
              <a:gd name="adj2" fmla="val 62615"/>
            </a:avLst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189400" y="907200"/>
            <a:ext cx="4402080" cy="824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Comic Sans MS"/>
              </a:rPr>
              <a:t>cartellone esemplificativ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Comic Sans MS"/>
              </a:rPr>
              <a:t>delle principali fonti di risch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024520" y="2924280"/>
            <a:ext cx="4537080" cy="45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Comic Sans MS"/>
              </a:rPr>
              <a:t>L’albero della preven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881600" y="5157720"/>
            <a:ext cx="4608360" cy="45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2400" spc="-1" strike="noStrike">
                <a:solidFill>
                  <a:srgbClr val="003366"/>
                </a:solidFill>
                <a:latin typeface="Comic Sans MS"/>
              </a:rPr>
              <a:t>gli elaborati DVR e P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81000" y="104760"/>
            <a:ext cx="8842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73160" y="990720"/>
            <a:ext cx="8702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-160200" y="0"/>
            <a:ext cx="1006632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136520" y="1844640"/>
            <a:ext cx="76327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ff0000"/>
                </a:solidFill>
                <a:latin typeface="Comic Sans MS"/>
              </a:rPr>
              <a:t>grazie per l’attenzion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-360" y="6093000"/>
            <a:ext cx="54831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Lucida Sans Unicode"/>
              </a:rPr>
              <a:t>Dott.ssa Maria Giovanna Dovetto</a:t>
            </a:r>
            <a:endParaRPr b="0" lang="en-US" sz="2000" spc="-1" strike="noStrike">
              <a:solidFill>
                <a:srgbClr val="00225e"/>
              </a:solidFill>
              <a:latin typeface="Lucida Sans Unicode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00160" y="189000"/>
            <a:ext cx="4665600" cy="1718280"/>
            <a:chOff x="200160" y="189000"/>
            <a:chExt cx="4665600" cy="1718280"/>
          </a:xfrm>
        </p:grpSpPr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>
              <a:off x="200160" y="189000"/>
              <a:ext cx="3657600" cy="169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1554120" y="1601640"/>
              <a:ext cx="33116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6699"/>
                  </a:solidFill>
                  <a:latin typeface="Lucida Sans Unicode"/>
                </a:rPr>
                <a:t>Dipartimento di Napol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488880" y="1989000"/>
            <a:ext cx="8925120" cy="1368720"/>
          </a:xfrm>
          <a:prstGeom prst="rect">
            <a:avLst/>
          </a:prstGeom>
          <a:noFill/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cc"/>
                </a:solidFill>
                <a:latin typeface="Comic Sans MS"/>
              </a:rPr>
              <a:t>PROGETTO PILOTA DI </a:t>
            </a:r>
            <a:br>
              <a:rPr sz="2800"/>
            </a:br>
            <a:r>
              <a:rPr b="1" lang="it-IT" sz="2800" spc="-1" strike="noStrike">
                <a:solidFill>
                  <a:srgbClr val="0000cc"/>
                </a:solidFill>
                <a:latin typeface="Comic Sans MS"/>
              </a:rPr>
              <a:t>FORMAZIONE INFORMAZIONE</a:t>
            </a:r>
            <a:br>
              <a:rPr sz="2800"/>
            </a:br>
            <a:r>
              <a:rPr b="1" lang="it-IT" sz="2800" spc="-1" strike="noStrike">
                <a:solidFill>
                  <a:srgbClr val="0000cc"/>
                </a:solidFill>
                <a:latin typeface="Comic Sans MS"/>
              </a:rPr>
              <a:t>“SCUOLA SICUR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224160" y="4005360"/>
            <a:ext cx="3313080" cy="189072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81000" y="104760"/>
            <a:ext cx="8842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66"/>
                </a:solidFill>
                <a:latin typeface="Comic Sans MS"/>
              </a:rPr>
              <a:t>IL TERRITORIO</a:t>
            </a:r>
            <a:endParaRPr b="1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5" name=""/>
          <p:cNvSpPr/>
          <p:nvPr/>
        </p:nvSpPr>
        <p:spPr>
          <a:xfrm>
            <a:off x="1424160" y="836640"/>
            <a:ext cx="741672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49240" y="692280"/>
            <a:ext cx="5904000" cy="59036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 rot="5400000">
            <a:off x="7688520" y="1484640"/>
            <a:ext cx="1008360" cy="2737080"/>
          </a:xfrm>
          <a:prstGeom prst="downArrowCallout">
            <a:avLst>
              <a:gd name="adj1" fmla="val 25002"/>
              <a:gd name="adj2" fmla="val 25000"/>
              <a:gd name="adj3" fmla="val 45240"/>
              <a:gd name="adj4" fmla="val 66667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744320" y="2363760"/>
            <a:ext cx="167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Quarti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Chia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14619600">
            <a:off x="2936520" y="1629000"/>
            <a:ext cx="1008000" cy="792000"/>
          </a:xfrm>
          <a:prstGeom prst="leftArrow">
            <a:avLst>
              <a:gd name="adj1" fmla="val 50000"/>
              <a:gd name="adj2" fmla="val 31818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81000" y="-17640"/>
            <a:ext cx="8842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Comic Sans MS"/>
              </a:rPr>
              <a:t>LE SCUOLE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61" name=""/>
          <p:cNvSpPr/>
          <p:nvPr/>
        </p:nvSpPr>
        <p:spPr>
          <a:xfrm>
            <a:off x="200160" y="765000"/>
            <a:ext cx="2736720" cy="1368720"/>
          </a:xfrm>
          <a:prstGeom prst="ellipse">
            <a:avLst/>
          </a:prstGeom>
          <a:solidFill>
            <a:srgbClr val="ff66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4520" y="1125360"/>
            <a:ext cx="2305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iceo classico “Umberto I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40160" y="1484280"/>
            <a:ext cx="2736720" cy="1224000"/>
          </a:xfrm>
          <a:prstGeom prst="ellipse">
            <a:avLst/>
          </a:prstGeom>
          <a:solidFill>
            <a:srgbClr val="ff66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584520" y="1628640"/>
            <a:ext cx="2519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Scuola Media “Tito Livi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026120" y="692280"/>
            <a:ext cx="2880000" cy="1512720"/>
          </a:xfrm>
          <a:prstGeom prst="ellipse">
            <a:avLst/>
          </a:prstGeom>
          <a:solidFill>
            <a:srgbClr val="ff66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6120" y="1197000"/>
            <a:ext cx="28800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Scuola elementare “E.De Amici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10800000">
            <a:off x="3007800" y="475560"/>
            <a:ext cx="3745080" cy="865080"/>
          </a:xfrm>
          <a:custGeom>
            <a:avLst/>
            <a:gdLst>
              <a:gd name="textAreaLeft" fmla="*/ 0 w 3745080"/>
              <a:gd name="textAreaRight" fmla="*/ 3745440 w 374508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3366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205000"/>
            <a:ext cx="2720880" cy="381636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276640"/>
            <a:ext cx="3166920" cy="37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’ambiente scolastico come luogo di lavo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dentificazione e monitoraggio dei fattori di risch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Redazione di elaborati tecnici (DVR e P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242120" y="2349360"/>
            <a:ext cx="2664000" cy="381636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329600" y="2421000"/>
            <a:ext cx="2576520" cy="37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a scuola, la casa, il percorso casa/scu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onoscenza dei fattori di risch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Misure preventive comportament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792520" y="3084480"/>
            <a:ext cx="4392360" cy="338436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a scuola, la casa, la palestra, la st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ndividuazione delle principali cause di risch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onoscenza delle opportune misure comportamentali preven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81000" y="-11520"/>
            <a:ext cx="8842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Comic Sans MS"/>
              </a:rPr>
              <a:t>I PRINCIPALI ARGOMENTI</a:t>
            </a:r>
            <a:endParaRPr b="1" lang="en-US" sz="40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20520" y="620640"/>
            <a:ext cx="8785080" cy="5904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3300"/>
                </a:solidFill>
                <a:latin typeface="Comic Sans MS"/>
              </a:rPr>
              <a:t>1)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La sicurezza nei luoghi di vita e di lavoro</a:t>
            </a:r>
            <a:endParaRPr b="0" lang="en-US" sz="2800" spc="-1" strike="noStrike">
              <a:solidFill>
                <a:srgbClr val="00225e"/>
              </a:solidFill>
              <a:latin typeface="Lucida Sans Unicode"/>
            </a:endParaRPr>
          </a:p>
          <a:p>
            <a:pPr marL="45720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fondamenti normativi</a:t>
            </a:r>
            <a:endParaRPr b="0" lang="en-US" sz="2000" spc="-1" strike="noStrike">
              <a:solidFill>
                <a:srgbClr val="00225e"/>
              </a:solidFill>
              <a:latin typeface="Lucida Sans Unicode"/>
            </a:endParaRPr>
          </a:p>
          <a:p>
            <a:pPr marL="45720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3300"/>
                </a:solidFill>
                <a:latin typeface="Comic Sans MS"/>
              </a:rPr>
              <a:t>2)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Gli spostamenti</a:t>
            </a:r>
            <a:endParaRPr b="0" lang="en-US" sz="2800" spc="-1" strike="noStrike">
              <a:solidFill>
                <a:srgbClr val="00225e"/>
              </a:solidFill>
              <a:latin typeface="Lucida Sans Unicode"/>
            </a:endParaRPr>
          </a:p>
          <a:p>
            <a:pPr marL="45720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a scuola, la casa, la strada</a:t>
            </a:r>
            <a:endParaRPr b="0" lang="en-US" sz="2000" spc="-1" strike="noStrike">
              <a:solidFill>
                <a:srgbClr val="00225e"/>
              </a:solidFill>
              <a:latin typeface="Lucida Sans Unicode"/>
            </a:endParaRPr>
          </a:p>
          <a:p>
            <a:pPr marL="45720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3300"/>
                </a:solidFill>
                <a:latin typeface="Comic Sans MS"/>
              </a:rPr>
              <a:t>3)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L’elettricità</a:t>
            </a:r>
            <a:endParaRPr b="0" lang="en-US" sz="2800" spc="-1" strike="noStrike">
              <a:solidFill>
                <a:srgbClr val="00225e"/>
              </a:solidFill>
              <a:latin typeface="Lucida Sans Unicode"/>
            </a:endParaRPr>
          </a:p>
          <a:p>
            <a:pPr marL="45720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rischio elettrocuzione</a:t>
            </a:r>
            <a:endParaRPr b="0" lang="en-US" sz="2000" spc="-1" strike="noStrike">
              <a:solidFill>
                <a:srgbClr val="00225e"/>
              </a:solidFill>
              <a:latin typeface="Lucida Sans Unicode"/>
            </a:endParaRPr>
          </a:p>
          <a:p>
            <a:pPr marL="45720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3300"/>
                </a:solidFill>
                <a:latin typeface="Comic Sans MS"/>
              </a:rPr>
              <a:t>4)</a:t>
            </a:r>
            <a:r>
              <a:rPr b="1" lang="it-IT" sz="28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Il fuoco e l’acqua</a:t>
            </a:r>
            <a:endParaRPr b="0" lang="en-US" sz="2800" spc="-1" strike="noStrike">
              <a:solidFill>
                <a:srgbClr val="00225e"/>
              </a:solidFill>
              <a:latin typeface="Lucida Sans Unicode"/>
            </a:endParaRPr>
          </a:p>
          <a:p>
            <a:pPr marL="45720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rischio incendio e allagamento</a:t>
            </a: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  <a:p>
            <a:pPr marL="45720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3300"/>
                </a:solidFill>
                <a:latin typeface="Comic Sans MS"/>
              </a:rPr>
              <a:t>5)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 L’ergonomia</a:t>
            </a:r>
            <a:endParaRPr b="0" lang="en-US" sz="2800" spc="-1" strike="noStrike">
              <a:solidFill>
                <a:srgbClr val="00225e"/>
              </a:solidFill>
              <a:latin typeface="Lucida Sans Unicode"/>
            </a:endParaRPr>
          </a:p>
          <a:p>
            <a:pPr lvl="1" marL="66996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225e"/>
              </a:solidFill>
              <a:latin typeface="Lucida Sans Unicode"/>
            </a:endParaRPr>
          </a:p>
          <a:p>
            <a:pPr marL="45720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3300"/>
                </a:solidFill>
                <a:latin typeface="Comic Sans MS"/>
              </a:rPr>
              <a:t>6)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 I laboratori</a:t>
            </a:r>
            <a:endParaRPr b="0" lang="en-US" sz="2800" spc="-1" strike="noStrike">
              <a:solidFill>
                <a:srgbClr val="00225e"/>
              </a:solidFill>
              <a:latin typeface="Lucida Sans Unicode"/>
            </a:endParaRPr>
          </a:p>
          <a:p>
            <a:pPr marL="45720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rischio chimico</a:t>
            </a: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  <a:p>
            <a:pPr marL="45720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3300"/>
                </a:solidFill>
                <a:latin typeface="Comic Sans MS"/>
              </a:rPr>
              <a:t>7)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Il Documento di valutazione dei rischi</a:t>
            </a:r>
            <a:endParaRPr b="0" lang="en-US" sz="2800" spc="-1" strike="noStrike">
              <a:solidFill>
                <a:srgbClr val="00225e"/>
              </a:solidFill>
              <a:latin typeface="Lucida Sans Unicode"/>
            </a:endParaRPr>
          </a:p>
          <a:p>
            <a:pPr marL="45720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3300"/>
                </a:solidFill>
                <a:latin typeface="Comic Sans MS"/>
              </a:rPr>
              <a:t>8)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 Il Piano di emergenza</a:t>
            </a:r>
            <a:endParaRPr b="0" lang="en-US" sz="2800" spc="-1" strike="noStrike">
              <a:solidFill>
                <a:srgbClr val="00225e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104760"/>
            <a:ext cx="10066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66"/>
                </a:solidFill>
                <a:latin typeface="Comic Sans MS"/>
              </a:rPr>
              <a:t>LA COMUNICAZIONE</a:t>
            </a:r>
            <a:endParaRPr b="1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76" name=""/>
          <p:cNvSpPr/>
          <p:nvPr/>
        </p:nvSpPr>
        <p:spPr>
          <a:xfrm>
            <a:off x="1784520" y="1413000"/>
            <a:ext cx="72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248520" y="1197000"/>
            <a:ext cx="2305080" cy="1368360"/>
          </a:xfrm>
          <a:custGeom>
            <a:avLst/>
            <a:gdLst>
              <a:gd name="textAreaLeft" fmla="*/ 88560 w 2305080"/>
              <a:gd name="textAreaRight" fmla="*/ 2216520 w 2305080"/>
              <a:gd name="textAreaTop" fmla="*/ 88560 h 1368360"/>
              <a:gd name="textAreaBottom" fmla="*/ 1279800 h 1368360"/>
            </a:gdLst>
            <a:ahLst/>
            <a:rect l="textAreaLeft" t="textAreaTop" r="textAreaRight" b="textAreaBottom"/>
            <a:pathLst>
              <a:path w="36383" h="21600">
                <a:moveTo>
                  <a:pt x="0" y="0"/>
                </a:moveTo>
                <a:lnTo>
                  <a:pt x="36383" y="0"/>
                </a:lnTo>
                <a:lnTo>
                  <a:pt x="36383" y="21600"/>
                </a:lnTo>
                <a:lnTo>
                  <a:pt x="0" y="21600"/>
                </a:lnTo>
                <a:close/>
              </a:path>
              <a:path fill="lightenLess" w="36383" h="21600">
                <a:moveTo>
                  <a:pt x="0" y="0"/>
                </a:moveTo>
                <a:lnTo>
                  <a:pt x="36383" y="0"/>
                </a:lnTo>
                <a:lnTo>
                  <a:pt x="34983" y="1400"/>
                </a:lnTo>
                <a:lnTo>
                  <a:pt x="1400" y="1400"/>
                </a:lnTo>
                <a:close/>
              </a:path>
              <a:path fill="darken" w="36383" h="21600">
                <a:moveTo>
                  <a:pt x="36383" y="0"/>
                </a:moveTo>
                <a:lnTo>
                  <a:pt x="36383" y="21600"/>
                </a:lnTo>
                <a:lnTo>
                  <a:pt x="34983" y="20200"/>
                </a:lnTo>
                <a:lnTo>
                  <a:pt x="34983" y="1400"/>
                </a:lnTo>
                <a:close/>
              </a:path>
              <a:path fill="darkenLess" w="36383" h="21600">
                <a:moveTo>
                  <a:pt x="363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983" y="20200"/>
                </a:lnTo>
                <a:close/>
              </a:path>
              <a:path fill="lighten" w="363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383" h="21600">
                <a:moveTo>
                  <a:pt x="11185" y="7301"/>
                </a:moveTo>
                <a:lnTo>
                  <a:pt x="12099" y="7301"/>
                </a:lnTo>
                <a:lnTo>
                  <a:pt x="12482" y="7667"/>
                </a:lnTo>
                <a:lnTo>
                  <a:pt x="21690" y="7667"/>
                </a:lnTo>
                <a:lnTo>
                  <a:pt x="22247" y="8224"/>
                </a:lnTo>
                <a:lnTo>
                  <a:pt x="22247" y="8772"/>
                </a:lnTo>
                <a:lnTo>
                  <a:pt x="24092" y="8772"/>
                </a:lnTo>
                <a:lnTo>
                  <a:pt x="24458" y="8224"/>
                </a:lnTo>
                <a:lnTo>
                  <a:pt x="25198" y="8224"/>
                </a:lnTo>
                <a:lnTo>
                  <a:pt x="25198" y="13376"/>
                </a:lnTo>
                <a:lnTo>
                  <a:pt x="24458" y="13376"/>
                </a:lnTo>
                <a:lnTo>
                  <a:pt x="24092" y="12828"/>
                </a:lnTo>
                <a:lnTo>
                  <a:pt x="22247" y="12828"/>
                </a:lnTo>
                <a:lnTo>
                  <a:pt x="22247" y="14107"/>
                </a:lnTo>
                <a:lnTo>
                  <a:pt x="12664" y="14107"/>
                </a:lnTo>
                <a:lnTo>
                  <a:pt x="12664" y="9877"/>
                </a:lnTo>
                <a:lnTo>
                  <a:pt x="12482" y="9877"/>
                </a:lnTo>
                <a:lnTo>
                  <a:pt x="12099" y="10243"/>
                </a:lnTo>
                <a:lnTo>
                  <a:pt x="11185" y="1024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36520" y="981000"/>
            <a:ext cx="2376720" cy="82404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Comic Sans MS"/>
              </a:rPr>
              <a:t>PERCEZIONE DEL RISCH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8434200">
            <a:off x="4304880" y="1341360"/>
            <a:ext cx="1079640" cy="1008000"/>
          </a:xfrm>
          <a:custGeom>
            <a:avLst/>
            <a:gdLst>
              <a:gd name="textAreaLeft" fmla="*/ 309960 w 1079640"/>
              <a:gd name="textAreaRight" fmla="*/ 924840 w 1079640"/>
              <a:gd name="textAreaTop" fmla="*/ 580680 h 1008000"/>
              <a:gd name="textAreaBottom" fmla="*/ 86364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033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176880" y="907920"/>
            <a:ext cx="237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Comic Sans MS"/>
              </a:rPr>
              <a:t>FATTORI</a:t>
            </a:r>
            <a:r>
              <a:rPr b="0" lang="it-IT" sz="2400" spc="-1" strike="noStrike">
                <a:solidFill>
                  <a:srgbClr val="003366"/>
                </a:solidFill>
                <a:latin typeface="Verdana"/>
              </a:rPr>
              <a:t> OGGETTI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05600" y="2205000"/>
            <a:ext cx="2663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Comic Sans MS"/>
              </a:rPr>
              <a:t>FATTORI SOGGETTI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321600" y="836640"/>
            <a:ext cx="2089080" cy="1079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76880" y="2133720"/>
            <a:ext cx="2592360" cy="1008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96880" y="3357720"/>
            <a:ext cx="7848720" cy="824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Comic Sans MS"/>
              </a:rPr>
              <a:t>Lo sforzo educativo deve esser teso ad avvicinare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3366"/>
                </a:solidFill>
                <a:latin typeface="Comic Sans MS"/>
              </a:rPr>
              <a:t>la percezione soggettiva alla percezione ogget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28880" y="4653000"/>
            <a:ext cx="3168720" cy="458280"/>
          </a:xfrm>
          <a:prstGeom prst="rect">
            <a:avLst/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Comic Sans MS"/>
              </a:rPr>
              <a:t>Modulo circol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81000" y="104760"/>
            <a:ext cx="8842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66"/>
                </a:solidFill>
                <a:latin typeface="Comic Sans MS"/>
              </a:rPr>
              <a:t>DIDATTICHE ATTIVE</a:t>
            </a:r>
            <a:endParaRPr b="1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87" name=""/>
          <p:cNvSpPr/>
          <p:nvPr/>
        </p:nvSpPr>
        <p:spPr>
          <a:xfrm>
            <a:off x="1136520" y="620640"/>
            <a:ext cx="8425080" cy="824040"/>
          </a:xfrm>
          <a:prstGeom prst="rect">
            <a:avLst/>
          </a:prstGeom>
          <a:solidFill>
            <a:srgbClr val="ff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Comic Sans MS"/>
              </a:rPr>
              <a:t>problem solving, brainstorming, disegno, role playing, videogioc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24160" y="1700280"/>
            <a:ext cx="3240000" cy="49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3300"/>
                </a:solidFill>
                <a:latin typeface="Comic Sans MS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336699"/>
                </a:solidFill>
                <a:latin typeface="Comic Sans MS"/>
              </a:rPr>
              <a:t>s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3300"/>
                </a:solidFill>
                <a:latin typeface="Comic Sans MS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336699"/>
                </a:solidFill>
                <a:latin typeface="Comic Sans MS"/>
              </a:rPr>
              <a:t>insi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3300"/>
                </a:solidFill>
                <a:latin typeface="Comic Sans MS"/>
              </a:rPr>
              <a:t>C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336699"/>
                </a:solidFill>
                <a:latin typeface="Comic Sans MS"/>
              </a:rPr>
              <a:t>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3300"/>
                </a:solidFill>
                <a:latin typeface="Comic Sans MS"/>
              </a:rPr>
              <a:t>U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336699"/>
                </a:solidFill>
                <a:latin typeface="Comic Sans MS"/>
              </a:rPr>
              <a:t>u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3300"/>
                </a:solidFill>
                <a:latin typeface="Comic Sans MS"/>
              </a:rPr>
              <a:t>R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336699"/>
                </a:solidFill>
                <a:latin typeface="Comic Sans MS"/>
              </a:rPr>
              <a:t>reg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3300"/>
                </a:solidFill>
                <a:latin typeface="Comic Sans MS"/>
              </a:rPr>
              <a:t>E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336699"/>
                </a:solidFill>
                <a:latin typeface="Comic Sans MS"/>
              </a:rPr>
              <a:t>essenz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3300"/>
                </a:solidFill>
                <a:latin typeface="Comic Sans MS"/>
              </a:rPr>
              <a:t>Z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336699"/>
                </a:solidFill>
                <a:latin typeface="Comic Sans MS"/>
              </a:rPr>
              <a:t>zero perico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3300"/>
                </a:solidFill>
                <a:latin typeface="Comic Sans MS"/>
              </a:rPr>
              <a:t>Z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336699"/>
                </a:solidFill>
                <a:latin typeface="Comic Sans MS"/>
              </a:rPr>
              <a:t>zero incid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3300"/>
                </a:solidFill>
                <a:latin typeface="Comic Sans MS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336699"/>
                </a:solidFill>
                <a:latin typeface="Comic Sans MS"/>
              </a:rPr>
              <a:t>amare la v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08160" y="1700280"/>
            <a:ext cx="914400" cy="4897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184880" y="2133720"/>
            <a:ext cx="1871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Verdana"/>
              </a:rPr>
              <a:t>II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81000" y="43560"/>
            <a:ext cx="8842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c3300"/>
                </a:solidFill>
                <a:latin typeface="Comic Sans MS"/>
              </a:rPr>
              <a:t>spostarsi… in </a:t>
            </a:r>
            <a:r>
              <a:rPr b="1" i="1" lang="it-IT" sz="3200" spc="-1" strike="noStrike">
                <a:solidFill>
                  <a:srgbClr val="cc3300"/>
                </a:solidFill>
                <a:latin typeface="Comic Sans MS"/>
              </a:rPr>
              <a:t>prospettiva</a:t>
            </a:r>
            <a:r>
              <a:rPr b="1" lang="it-IT" sz="3200" spc="-1" strike="noStrike">
                <a:solidFill>
                  <a:srgbClr val="cc3300"/>
                </a:solidFill>
                <a:latin typeface="Comic Sans MS"/>
              </a:rPr>
              <a:t> della sicurezza</a:t>
            </a:r>
            <a:endParaRPr b="1" lang="en-US" sz="3200" spc="-1" strike="noStrike">
              <a:solidFill>
                <a:srgbClr val="003366"/>
              </a:solidFill>
              <a:latin typeface="Lucida Sans Unicode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639800" y="907920"/>
            <a:ext cx="7274160" cy="5400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568520" y="907920"/>
            <a:ext cx="7416720" cy="5400720"/>
          </a:xfrm>
          <a:prstGeom prst="rect">
            <a:avLst/>
          </a:prstGeom>
          <a:noFill/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568520" y="907920"/>
            <a:ext cx="7416720" cy="535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800px-Piero_della_Francesca_Ideal_City"/>
          <p:cNvPicPr/>
          <p:nvPr/>
        </p:nvPicPr>
        <p:blipFill>
          <a:blip r:embed="rId1"/>
          <a:stretch/>
        </p:blipFill>
        <p:spPr>
          <a:xfrm>
            <a:off x="272880" y="1197000"/>
            <a:ext cx="9417240" cy="2378160"/>
          </a:xfrm>
          <a:prstGeom prst="rect">
            <a:avLst/>
          </a:prstGeom>
          <a:ln w="76320">
            <a:solidFill>
              <a:srgbClr val="b2b2b2"/>
            </a:solidFill>
            <a:miter/>
          </a:ln>
        </p:spPr>
      </p:pic>
      <p:sp>
        <p:nvSpPr>
          <p:cNvPr id="96" name="Text Box 5"/>
          <p:cNvSpPr/>
          <p:nvPr/>
        </p:nvSpPr>
        <p:spPr>
          <a:xfrm>
            <a:off x="920880" y="0"/>
            <a:ext cx="8985240" cy="579960"/>
          </a:xfrm>
          <a:prstGeom prst="rect">
            <a:avLst/>
          </a:prstGeom>
          <a:solidFill>
            <a:srgbClr val="ff9900"/>
          </a:solidFill>
          <a:ln w="38160">
            <a:solidFill>
              <a:srgbClr val="f6c9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CITTA’ IDE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992160" y="3789360"/>
            <a:ext cx="8353440" cy="8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nonimo fiorentino, databile tra il 1480 e il 149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Galleria Nazionale delle Marche Urb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2216160" y="5104440"/>
            <a:ext cx="5905440" cy="8240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e ora provateci voi…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a scuola ideal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07T16:20:31Z</dcterms:created>
  <dc:creator>Maurizio Castagna</dc:creator>
  <dc:description/>
  <dc:language>en-US</dc:language>
  <cp:lastModifiedBy>ASYS</cp:lastModifiedBy>
  <cp:lastPrinted>2002-12-10T11:15:17Z</cp:lastPrinted>
  <dcterms:modified xsi:type="dcterms:W3CDTF">2010-01-19T10:17:46Z</dcterms:modified>
  <cp:revision>648</cp:revision>
  <dc:subject/>
  <dc:title>Analisi delle esigenze</dc:title>
</cp:coreProperties>
</file>